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517-6B03-4D70-A349-D6FE8F5D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98E-19A3-49D2-81AB-81D6AF3B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CD4-3036-42B8-8BDE-83E5D011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EDB-E641-45F0-94FB-E865C9CD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967-A8EF-4BD9-B32D-03DC42C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A4-6317-41F7-A9DC-FF559C9D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409-5D9F-4C35-8D52-BC60201F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A40-25D4-4D4C-9C5C-C1AE58E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386-DF82-49F9-B90B-10441EB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6A7-4FB4-4173-A239-ACE160D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E55-31B5-49EF-80F9-557874A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5C7-4AC3-4CA7-8B97-4D3BF04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EA6E-ADD4-47A6-B034-5396A078D03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r.com/" TargetMode="External"/><Relationship Id="rId2" Type="http://schemas.openxmlformats.org/officeDocument/2006/relationships/hyperlink" Target="http://www.nr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Számítógépes fizika 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F620E és FMN320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adó: Czirják Atti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pont: szerda, 14:00 – 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elyszín: Fizika – Kémia számítógépes kabinet (i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-mail:  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zirjak@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nlap: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ttp://www.staff.u-szeged.hu/~czirjak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adóóra: csütörtök 11:00, Elméleti Fizikai Tansz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pcsolattartás: e-mail, kurzusfó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urzus cél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zika, matematika és programozás  „összekapcsolása”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zikai probléma és modellezése; matematikai egyenletek felírása;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umerikus megoldá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; eredmények megjelenítése és értelmezése, ellenőrz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deklődés felkeltése; tudás, tapasztalat és önbizalom megszerz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árom féléves tantá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4876920"/>
            <a:ext cx="350532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ámítógépes fizika, F620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666880"/>
            <a:ext cx="3200400" cy="11912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ámítógépes szimulációk a fizikában, F720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2362320"/>
            <a:ext cx="3276720" cy="11912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mbolikus nyelvek alkalmazása a fizikában, F820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704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952880" y="373356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09880" y="3124080"/>
            <a:ext cx="16765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mat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ógépes fizikai modellezés célja, eszközei. Matematikai szoftverkönyvtárak a világhálón. A C nyelv és a Mathematica szoftver használatának alap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ális számítógépek belső számábrázolása, numerikus hibák. Numerikus deriválás véges differenciákkal. Formulák rendje és pontossága. Szimbolikus derivál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áris ill. nemlineáris egyenletek numerikus megoldásának alap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zá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kus integrálás: klasszikus módszerek, nyitott és zárt formulák; Gauss-kvadratúrák; többváltozós integrálok. Szimbolikus integrál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transzformáció, DFT, FFT. Alkalmazás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mat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nséges differenciálegyenletek numerikus megoldásának alapjai; Euler módszer és stabilit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zdetiérték problémák: Runge-Kutta módszer; a lépésköz adaptív szabály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emérték problémá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ciális differenciálegyenletek numerikus megoldásának alapjai; véges differencia módszerek; Neumann-féle stabilitásvizsgá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bolikus ill. parabolikus kezdetiérték problémák numerikus megoldásának alp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ciális differenciálegyenletek numerikus megoldása végeselem (FEM) módszerrel. FEM-szoftver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zköz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ógép: helyben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oftverek: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-böngésző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crobat Read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thematic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 fordító (Microsoft Visual C++ 5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llokvium: tétel és feladatmegoldás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ármilyen segédeszköz használható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Órai munka (kérdések, hozzászólások, javaslatok, házi feladatok), jelenlét fon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 mit tu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zik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ogramoz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lkulus, (lineáris) algeb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umerikus módszere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H. Press, S. A. Teukolsky, W. T. Vetterling, B. P. Flannery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al Recipes in C,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ridge University Press, 2nd edition, 1992. </a:t>
            </a:r>
            <a:br>
              <a:rPr sz="2400"/>
            </a:br>
            <a:r>
              <a:rPr b="0" lang="hu-HU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2"/>
              </a:rPr>
              <a:t>www.nr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N. Bronstein, K. A. Szemengyajev, G. Musiol, H. Mühling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matikai kézikönyv,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otex Kiadó, Budapest,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tha Ferenc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ógépes fizika óravázlat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zira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jate.u-szeged.hu/˜barthaf/oktata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. W. Kernighan, D. M. Ritchie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C programozási nyel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űszaki Könyvkiadó, Budapest, 19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ttila Czirjak</cp:lastModifiedBy>
  <dcterms:modified xsi:type="dcterms:W3CDTF">2009-02-11T10:51:08Z</dcterms:modified>
  <cp:revision>20</cp:revision>
  <dc:subject/>
  <dc:title>PowerPoint Presentation</dc:title>
</cp:coreProperties>
</file>